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8C09-5C3A-4A45-A3E4-90072C1E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32D9-12CB-421F-B60F-50240D3A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4BBE-79A7-4D5F-9C5B-D0B44D89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878B-4B81-4545-A1E9-82E180ECE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C936-57D7-4495-AED4-13C5A5E72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E8D2-C5FC-4E83-8BAC-B6D4D715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E244-2DC5-41BD-B1D5-D331A9A3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B20D-FC64-47EA-BF90-681E2A99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E871-8B43-4594-B2E1-AEDFCA04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5714-2FFF-425C-B683-21735C81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D2FC-B481-4922-B386-DD047B3D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0F61-06B4-45B9-97CB-3E33D3D8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B6D2-151D-461C-A330-8C4ED8AA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5643-8C1F-4BF7-B847-F47298A9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658B-4637-4252-8135-1A1155C7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B477-B73B-44BD-8860-90FF60A1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8FB0-2EE1-4A56-9267-4F3B63F47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CDB27E-0984-4AE4-AE9B-FF4BE86A2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840788-0645-4CBD-8E2C-0FF1C6BA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5B64F1-756A-45D1-854D-DB52436D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B65BF5-26FB-4D9E-87A6-0CFB9843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308213-7B18-4D21-BCE8-D16783B5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1DEF-3E80-403B-9611-252FCE35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D635A1-71B0-47D5-AC23-26D18E3F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0258C9-E8DB-4694-BD14-980D8834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06EC47-C890-4775-90AE-5B418F6D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45C4CA-BD3C-4338-9782-357649ED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F96656-66F5-4715-B7CA-4AF22295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2922EC-145B-40BE-80D6-38007A2BA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D1E5B3-635F-45FB-B582-F229B309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7F346-FD81-48D8-B7AA-AB823372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77BED-6D03-4BD7-AB75-EEEE3ABE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D8A7E-6D7C-41F5-A3FC-C3C17415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E29E-9923-4337-BD43-5CA9A939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A6135-0809-4EC0-A7BA-4F7FB9E3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71D73-200B-4BDC-B567-E6BF7E3D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9119D-9303-430C-B628-BDF02F83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9D90C-E075-4B6A-8704-ED28221E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1E376-E364-494A-B8CB-3E1106B5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CF0F8-D5E6-4F0D-91D6-BCB4751C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D5C5B-F384-478F-A646-A36AF077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DDAB5-AFA4-4E19-99B6-7CA650AC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C76F8-5337-4286-BCC3-DC123A9C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97A827-9E59-497C-8FF5-55862663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42DA-EA09-4DCC-82FA-11B4A1F9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9DB21F-17C5-4BCD-B7CE-795ADDA1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264137-D44C-401E-AF2F-205F23FC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42BB04-4F0D-4200-B16D-9B05B045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DDB9DF-DAA9-4AA2-8B34-5113CF77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3F5084-7D27-43EC-A0B4-2C342979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A4EF39-0FF7-44ED-98FE-33992BCA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DF10FE-C7D9-47C1-8A86-3F1B98B8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EA1B8E-2746-4C40-8F99-D7A3FEB6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7E554A-EBC9-41ED-B2FA-D1CA09F4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6DA41D-B269-4DE3-9201-530EE2E61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7B74-D8E8-41FB-9009-223CE221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ACAFC6-E6AD-4E6F-9AB1-B8D96577B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A7FED-1D36-4423-B173-0C4AEA9F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A3D41-2155-4E6E-8F5F-D7B791D6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73772-F01C-4874-892D-EBE9684F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F2D9C-03AA-4556-B08E-C6846B79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F8936-24BE-41F6-A338-B2E7842D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2B657-23C4-4953-9507-C2A481D4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D6299-E1F2-4AF6-9C40-10BBB0C7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A4628-D58A-4D01-9BEF-63238174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BDDE2-C347-42F4-B1E3-7F84424E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1731-4E3E-4129-869E-54EA1561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5BAF1-C646-4B6F-9F00-96E6E161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5C69E-F423-4711-BE4F-4484DBB74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C28A3-6142-4E92-8ACA-D1C994942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8B52-BB68-42CD-A97E-E3F53793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79DA-09C3-4032-ADA7-6FD3ED77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775f55"/>
                </a:solidFill>
                <a:latin typeface="Tw Cen MT"/>
                <a:ea typeface="HY얕은샘물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775f55"/>
                </a:solidFill>
                <a:latin typeface="Tw Cen MT"/>
                <a:ea typeface="HY얕은샘물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직사각형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직사각형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Tw Cen MT"/>
                <a:ea typeface="HY얕은샘물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0F95-69E3-46AA-99F9-CCD3142D450D}" type="slidenum">
              <a:rPr b="1" lang="ko-KR" sz="1400" spc="-1" strike="noStrike">
                <a:solidFill>
                  <a:srgbClr val="ffffff"/>
                </a:solidFill>
                <a:latin typeface="Tw Cen MT"/>
                <a:ea typeface="HY얕은샘물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직사각형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직사각형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직사각형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000" spc="-1" strike="noStrike">
                <a:solidFill>
                  <a:srgbClr val="ffffff"/>
                </a:solidFill>
                <a:latin typeface="Tw Cen MT"/>
                <a:ea typeface="HY얕은샘물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w Cen MT"/>
                <a:ea typeface="HY얕은샘물M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ebddc3"/>
                </a:solidFill>
                <a:latin typeface="Tw Cen MT"/>
                <a:ea typeface="HY얕은샘물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5549-0763-49C4-9F95-14D4ED502E02}" type="slidenum">
              <a:rPr b="1" lang="ko-KR" sz="1400" spc="-1" strike="noStrike">
                <a:solidFill>
                  <a:srgbClr val="ebddc3"/>
                </a:solidFill>
                <a:latin typeface="Tw Cen MT"/>
                <a:ea typeface="HY얕은샘물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사각형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775f55"/>
                </a:solidFill>
                <a:latin typeface="Tw Cen MT"/>
                <a:ea typeface="HY얕은샘물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775f55"/>
                </a:solidFill>
                <a:latin typeface="Tw Cen MT"/>
                <a:ea typeface="HY얕은샘물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400" spc="-1" strike="noStrike">
                <a:solidFill>
                  <a:srgbClr val="ffffff"/>
                </a:solidFill>
                <a:latin typeface="Tw Cen MT"/>
                <a:ea typeface="HY얕은샘물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34C1-EEC9-4636-B0C0-42A7AB47138F}" type="slidenum">
              <a:rPr b="1" lang="ko-KR" sz="2400" spc="-1" strike="noStrike">
                <a:solidFill>
                  <a:srgbClr val="ffffff"/>
                </a:solidFill>
                <a:latin typeface="Tw Cen MT"/>
                <a:ea typeface="HY얕은샘물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775f55"/>
                </a:solidFill>
                <a:latin typeface="Tw Cen MT"/>
                <a:ea typeface="HY얕은샘물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775f55"/>
                </a:solidFill>
                <a:latin typeface="Tw Cen MT"/>
                <a:ea typeface="HY얕은샘물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775f55"/>
                </a:solidFill>
                <a:latin typeface="Tw Cen MT"/>
                <a:ea typeface="HY얕은샘물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9ED1-F47C-42C2-8CF5-6470DAC10C9F}" type="slidenum">
              <a:rPr b="1" lang="ko-KR" sz="1400" spc="-1" strike="noStrike">
                <a:solidFill>
                  <a:srgbClr val="775f55"/>
                </a:solidFill>
                <a:latin typeface="Tw Cen MT"/>
                <a:ea typeface="HY얕은샘물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직사각형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직사각형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직사각형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775f55"/>
                </a:solidFill>
                <a:latin typeface="Tw Cen MT"/>
                <a:ea typeface="HY얕은샘물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775f55"/>
                </a:solidFill>
                <a:latin typeface="Tw Cen MT"/>
                <a:ea typeface="HY얕은샘물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4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800" spc="-1" strike="noStrike">
                <a:solidFill>
                  <a:srgbClr val="ffffff"/>
                </a:solidFill>
                <a:latin typeface="Tw Cen MT"/>
                <a:ea typeface="HY얕은샘물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726F-B2CA-43CB-9641-DFCD8E37BD5A}" type="slidenum">
              <a:rPr b="1" lang="ko-KR" sz="2800" spc="-1" strike="noStrike">
                <a:solidFill>
                  <a:srgbClr val="ffffff"/>
                </a:solidFill>
                <a:latin typeface="Tw Cen MT"/>
                <a:ea typeface="HY얕은샘물M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5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직사각형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775f55"/>
                </a:solidFill>
                <a:latin typeface="Tw Cen MT"/>
                <a:ea typeface="HY얕은샘물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775f55"/>
                </a:solidFill>
                <a:latin typeface="Tw Cen MT"/>
                <a:ea typeface="HY얕은샘물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Tw Cen MT"/>
                <a:ea typeface="HY얕은샘물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3EED-B785-4A70-AE21-967C25B48CD7}" type="slidenum">
              <a:rPr b="1" lang="ko-KR" sz="1400" spc="-1" strike="noStrike">
                <a:solidFill>
                  <a:srgbClr val="ffffff"/>
                </a:solidFill>
                <a:latin typeface="Tw Cen MT"/>
                <a:ea typeface="HY얕은샘물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4200" y="4038120"/>
            <a:ext cx="8624880" cy="17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ddc3"/>
                </a:solidFill>
                <a:latin typeface="Tw Cen MT"/>
              </a:rPr>
              <a:t>MESTER DE JUGLAR</a:t>
            </a:r>
            <a:r>
              <a:rPr b="0" lang="en-US" sz="4800" spc="-1" strike="noStrike">
                <a:solidFill>
                  <a:srgbClr val="ebddc3"/>
                </a:solidFill>
                <a:latin typeface="Tw Cen MT"/>
                <a:ea typeface="Times New Roman"/>
              </a:rPr>
              <a:t>Í</a:t>
            </a:r>
            <a:r>
              <a:rPr b="0" lang="en-US" sz="4800" spc="-1" strike="noStrike">
                <a:solidFill>
                  <a:srgbClr val="ebddc3"/>
                </a:solidFill>
                <a:latin typeface="Tw Cen MT"/>
              </a:rPr>
              <a:t>A Y CLEREC</a:t>
            </a:r>
            <a:r>
              <a:rPr b="0" lang="en-US" sz="4800" spc="-1" strike="noStrike">
                <a:solidFill>
                  <a:srgbClr val="ebddc3"/>
                </a:solidFill>
                <a:latin typeface="Tw Cen MT"/>
                <a:ea typeface="Times New Roman"/>
              </a:rPr>
              <a:t>Í</a:t>
            </a:r>
            <a:r>
              <a:rPr b="0" lang="en-US" sz="4800" spc="-1" strike="noStrike">
                <a:solidFill>
                  <a:srgbClr val="ebddc3"/>
                </a:solidFill>
                <a:latin typeface="Tw Cen MT"/>
              </a:rPr>
              <a:t>A</a:t>
            </a:r>
            <a:endParaRPr b="0" lang="en-US" sz="4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Eun Jie Lee y Ruth Castillo. Pre AP Spanish “A”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264" name="Picture 2" descr="http://bp3.blogger.com/_lQvWWxpMCms/RwAd5Zck1SI/AAAAAAAAABo/GvqD5plavvo/s320/image034.jpg"/>
          <p:cNvPicPr/>
          <p:nvPr/>
        </p:nvPicPr>
        <p:blipFill>
          <a:blip r:embed="rId1"/>
          <a:stretch/>
        </p:blipFill>
        <p:spPr>
          <a:xfrm>
            <a:off x="3714840" y="642960"/>
            <a:ext cx="5029200" cy="424332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6"/>
          <p:cNvSpPr/>
          <p:nvPr/>
        </p:nvSpPr>
        <p:spPr>
          <a:xfrm>
            <a:off x="179280" y="6165720"/>
            <a:ext cx="2016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Ms. Escobar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2920" y="214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75f55"/>
                </a:solidFill>
                <a:latin typeface="Tw Cen MT"/>
              </a:rPr>
              <a:t>Cantar del Mio Cid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3600"/>
            </a:b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Bodas de las hijas del Cid con los infantes de Carri</a:t>
            </a:r>
            <a:r>
              <a:rPr b="0" lang="en-US" sz="2900" spc="-1" strike="noStrike">
                <a:solidFill>
                  <a:srgbClr val="775f55"/>
                </a:solidFill>
                <a:latin typeface="Tw Cen MT"/>
                <a:ea typeface="Times New Roman"/>
              </a:rPr>
              <a:t>ón</a:t>
            </a:r>
            <a:endParaRPr b="0" lang="en-US" sz="2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42960" y="17859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n Valencia, Don Rodrigo pide al rey Alfonso VI que permita a su esposa e hijas reunirse con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é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El monarca se accede a su solicitud, pero los valiosos regalos enviados a la Corte por don Rodrigo despiertan la codicia de los infantes de Carrión, que piden al soberano por esposas a las hijas del Ci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El Cid accede al casamiento sólo porque se lo pide su rey, aunque desconfía de los infant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75f55"/>
                </a:solidFill>
                <a:latin typeface="Tw Cen MT"/>
              </a:rPr>
              <a:t>Cantar del Mio Cid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3600"/>
            </a:b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Afrenta de Corpes y venganza del Cid</a:t>
            </a:r>
            <a:endParaRPr b="0" lang="en-US" sz="2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n incidente en el campamento del Cid demuestra la cobar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ía de los infantes, y los compañeros del héroe se burlan de ellos. Ofendidos, éstos piden permiso para llevar a sus esposas a sus tierras de Carrió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Al entrar en territorio de Castilla, en el robledal de Corpes, azotan a sus mujeres y las dejan, desnudas y medio muertas, atadas a unos árboles (es la venganza que han tramado contra el Cid y sus guerrero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75f55"/>
                </a:solidFill>
                <a:latin typeface="Tw Cen MT"/>
              </a:rPr>
              <a:t>Cantar del Mio Cid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3600"/>
            </a:b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Afrenta de Corpes y venganza del Cid</a:t>
            </a:r>
            <a:endParaRPr b="0" lang="en-US" sz="2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o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ña Elvira y doña Sol son halladas por un primo suyo, que da parte de lo ocurrido a su padre. Este pide justicia al monarnca, y se celebran Cortes en Toledo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En ellas, el Cid expone su demanda y reta a los infantes a un duelo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El duelo se efectúa, y los infanes son vencidos y declarados traidores. Llegan entonces mensajeros que piden en matrimonio a las hijas del Cid para los infantes de Navarra y Aragó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75f55"/>
                </a:solidFill>
                <a:latin typeface="Tw Cen MT"/>
              </a:rPr>
              <a:t>Cantar del Mio Ci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71680" y="192888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l Cid es el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único héroe de la epopeya universal que trasciende los dominios de la poesía y recibe de lleno la luz de la historia que no alumbra a ninguna de las grandes figuras épicas de otros pueblo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Encarga de confirmar el heroísmo y las altas cualidades moral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0040" y="4038120"/>
            <a:ext cx="8339040" cy="17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bddc3"/>
                </a:solidFill>
                <a:latin typeface="Tw Cen MT"/>
              </a:rPr>
              <a:t>MESTER DE CLEREC</a:t>
            </a:r>
            <a:r>
              <a:rPr b="0" lang="en-US" sz="6600" spc="-1" strike="noStrike">
                <a:solidFill>
                  <a:srgbClr val="ebddc3"/>
                </a:solidFill>
                <a:latin typeface="Tw Cen MT"/>
                <a:ea typeface="Times New Roman"/>
              </a:rPr>
              <a:t>Í</a:t>
            </a:r>
            <a:r>
              <a:rPr b="0" lang="en-US" sz="6600" spc="-1" strike="noStrike">
                <a:solidFill>
                  <a:srgbClr val="ebddc3"/>
                </a:solidFill>
                <a:latin typeface="Tw Cen MT"/>
              </a:rPr>
              <a:t>A</a:t>
            </a:r>
            <a:endParaRPr b="0" lang="en-US" sz="6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293" name="Picture 2" descr="http://www.musee-moyenage.fr/images/pages/bitmaps/clu_4bisg_83EE905_detail2.jpg"/>
          <p:cNvPicPr/>
          <p:nvPr/>
        </p:nvPicPr>
        <p:blipFill>
          <a:blip r:embed="rId1"/>
          <a:stretch/>
        </p:blipFill>
        <p:spPr>
          <a:xfrm>
            <a:off x="3838680" y="1928880"/>
            <a:ext cx="488448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ester de Clerecía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67840" indent="-267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La poesía es destinada principalmente a la lectur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Es poesía culta practicada por clérigo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uvo su mayor auge en los siglos XIII y XIV, teniendo como mayor exponente a </a:t>
            </a:r>
            <a:r>
              <a:rPr b="0" lang="en-US" sz="2900" spc="-1" strike="noStrike">
                <a:solidFill>
                  <a:srgbClr val="dd8047"/>
                </a:solidFill>
                <a:latin typeface="Tw Cen MT"/>
              </a:rPr>
              <a:t>Gonzalo de Berceo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Se distingue por el uso de la </a:t>
            </a:r>
            <a:r>
              <a:rPr b="0" i="1" lang="es-ES" sz="2900" spc="-1" strike="noStrike">
                <a:solidFill>
                  <a:srgbClr val="000000"/>
                </a:solidFill>
                <a:latin typeface="Tw Cen MT"/>
              </a:rPr>
              <a:t>cuaderna vía,</a:t>
            </a: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 que son estrofas de cuatro versos de rima consonante simila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37120" indent="-2289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w Cen MT"/>
              </a:rPr>
              <a:t>Versos Alejandrinos (14 sílabas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37120" indent="-2289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w Cen MT"/>
              </a:rPr>
              <a:t>Se llama tetrástrofo monorrimo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Los temas van desde lo religioso hasta lo festivo y lo pagano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onzalo de Berceo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53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El primer poeta castellano de nombre conocido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Nació a fines del siglo XII y se convirtió en sacerdot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Es el primer hagiógraf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Se educó en el convento de San Millán de la Cogoll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Murió después de 1264 en un lugar cercano a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Logroño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onzalo de Berce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Su obra es de carácter religioso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Sus poemas mas conocidos son la </a:t>
            </a:r>
            <a:r>
              <a:rPr b="0" i="1" lang="es-ES_tradnl" sz="2900" spc="-1" strike="noStrike">
                <a:solidFill>
                  <a:srgbClr val="000000"/>
                </a:solidFill>
                <a:latin typeface="Tw Cen MT"/>
              </a:rPr>
              <a:t>Vida de Santo Domingo de Silos, El sacrificio de la Misa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, y su obra mas importante los </a:t>
            </a:r>
            <a:r>
              <a:rPr b="0" i="1" lang="es-ES_tradnl" sz="2900" spc="-1" strike="noStrike">
                <a:solidFill>
                  <a:srgbClr val="000000"/>
                </a:solidFill>
                <a:latin typeface="Tw Cen MT"/>
              </a:rPr>
              <a:t>Milagros de Nuestra Señora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Amigos y vasallos de Dios omnipotente,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si escucharme quisierais de grado atentamente,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yo os querría contar un suceso excelent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al cabo lo veréis tal, verdaderamente.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                             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0" i="1" lang="es-ES_tradnl" sz="1800" spc="-1" strike="noStrike">
                <a:solidFill>
                  <a:srgbClr val="000000"/>
                </a:solidFill>
                <a:latin typeface="Tw Cen MT"/>
              </a:rPr>
              <a:t>Milagros de Nuestra Señor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os Milagros de Nuestra Señor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El primer verso es una escena alegórica continuada por una interpretación por el auto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Los siguientes versos expanden esa interpretación y preparan al lector a las otras alegorías que se encuentran en la obr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Quería popularizar las tradiciones religiosas relativas a la Virgen Mari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l Libro de Apoloni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1280" y="20718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Describe las aventuras de Apolonio, rey de Tiro, quien a perdido a su esposa Luciana e hija Tarsiana y las a recuperado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Es de autor anónimo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Tiene conceptos caballerescos pero también conserva las narraciones bizantina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Refleja el mundo caballeresco de su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époc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0040" y="4038120"/>
            <a:ext cx="8339040" cy="17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bddc3"/>
                </a:solidFill>
                <a:latin typeface="Tw Cen MT"/>
              </a:rPr>
              <a:t>MESTER DE JUGLAR</a:t>
            </a:r>
            <a:r>
              <a:rPr b="0" lang="en-US" sz="6600" spc="-1" strike="noStrike">
                <a:solidFill>
                  <a:srgbClr val="ebddc3"/>
                </a:solidFill>
                <a:latin typeface="Tw Cen MT"/>
                <a:ea typeface="Times New Roman"/>
              </a:rPr>
              <a:t>Í</a:t>
            </a:r>
            <a:r>
              <a:rPr b="0" lang="en-US" sz="6600" spc="-1" strike="noStrike">
                <a:solidFill>
                  <a:srgbClr val="ebddc3"/>
                </a:solidFill>
                <a:latin typeface="Tw Cen MT"/>
              </a:rPr>
              <a:t>A</a:t>
            </a:r>
            <a:endParaRPr b="0" lang="en-US" sz="6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268" name="Picture 2" descr="http://www.xtec.cat/~mtribio/docs_diversitat/juglar1.jpg"/>
          <p:cNvPicPr/>
          <p:nvPr/>
        </p:nvPicPr>
        <p:blipFill>
          <a:blip r:embed="rId1"/>
          <a:stretch/>
        </p:blipFill>
        <p:spPr>
          <a:xfrm>
            <a:off x="4857840" y="1000080"/>
            <a:ext cx="385272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l Libro de Alexand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35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67840" indent="-267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Este es el libro del mester de clerecía más extenso en existenci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Tiene aproximadamente 10,000 verso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El autor relata la vida de Alejandro Magno e incluye acontecimientos de otras épocas y descripciones imaginativas y fantástica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Algunos creen que el autor es anónimo, pero otros creen que es escrito por el clérigo Juan Lorenzo de Astorg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Libro de Alejandro Magno, desde su infancia hacia su muerte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l Libro de Buen Amo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Principal exponente del g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é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nero y el mejor documento sobre la vida y costumbres de la España medieva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Ya no es completamente mester de clerecía, tiene mezcla de otros verso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El autor es Juan Ruiz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Habla de las aventuras del autor en su busqueda de amor, con muchas canciones, fabulas y relatos episódico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En la figura del hombre muestra el trota conventos. (En este caso Doña Urraca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l Libro de Buen Amo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¡Ay Dios, y cúan hermosa viene doña Endrina por la plaza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¡Qué  talle, qué  donaire, qué alto cuello de garza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¡Qué cabellos, qué  boquilla, qué color, qué  buen andanza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 saetas de amor hiere cuando los sus ojos alza.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l Libro de Buen Amo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El protagonista, don Melón, logra vencer la resistencia de doña Endrina gracias la ayuda de doña Urrac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Doña Urraca se convierte en la ‘match maker’ en las situaciones más difícil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Hace al lector reflexionar sobre la ira, envidia y perez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El deseo del autor de abarcar al ser humano en todas sus dimensiones, con todas sus virtudes y sus defectos, es la base de la obr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oema de Fernán González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ma épico tradicional puesto en cuderna ví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rdor bélico y patriótico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Juan Ruiz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39280" y="1643040"/>
            <a:ext cx="815364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Aparentemente nació en Alcalá de Henares en el año 1283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Se convirtió en sacerdot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Años después fue nombrado arcipreste principal de Hita, en Castilla la Nuev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Tuvo una vida intens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Tenia convicciones religiosas profunda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Lo metieron preso por escribir sobre amores pecaminoso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Murió alrededor de 1350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lusion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85312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Mester de clerecía es escrita por clérigos, con temas variados y el uso de la </a:t>
            </a:r>
            <a:r>
              <a:rPr b="0" i="1" lang="es-ES_tradnl" sz="2900" spc="-1" strike="noStrike">
                <a:solidFill>
                  <a:srgbClr val="000000"/>
                </a:solidFill>
                <a:latin typeface="Tw Cen MT"/>
              </a:rPr>
              <a:t>cuaderna vía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El autor Gonzalo de Berceo es el primer poeta castellano de nombre conocido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El Libro de Buen Amor es el mayor exponente del g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é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nero y el mejor documento sobre la vida y costumbres de la España medieva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Mester de juglaría es de transmisión oral y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narra las hazañas de los héroes de la époc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El Mio Cid es la epopeya más antigua y se basa en hechos rigurosamente histórico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775f55"/>
                </a:solidFill>
                <a:latin typeface="Tw Cen MT"/>
              </a:rPr>
              <a:t>Bibliografí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Introduccion a la Literatura Española. Francisco Perez Rivera y Mario Hurtado. Prentice Hall Regents. Paginas 11-31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ester de juglar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Times New Roman"/>
              </a:rPr>
              <a:t>í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95280" y="1628640"/>
            <a:ext cx="81532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a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épica medieval castellana que narra las hazañas de los héroes de la época, se transmite oralmente de unos juglares a otros y más que la obra de autores anónimos, es el producto de la colaboración de todo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Temas nacionale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Cantares de gest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Rima asonan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Medida irregular de los vers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iversas teor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Times New Roman"/>
              </a:rPr>
              <a:t>ías de su oríg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00040" y="257184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rivaci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ón de la épica francesa – la que busca sus raíces en los cantos guerreros de los visigodo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Origen gótico(germánico) que explicase, la génesis de la epopeya, un influjo directo de formas, de detalles, de nombres árabes y un desarrollo netamente español y castellano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l per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Times New Roman"/>
              </a:rPr>
              <a:t>íodo de formació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28760" y="199980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tiende desde alrededor del siglo X hasta principios del XII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 sigue la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época de su máximo esplendo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Luego, el mester de juglaría se sigue cultivando con asiduidad aunque ha hecho ya su aparición la escuela “rival” del mester de clerecí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l per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Times New Roman"/>
              </a:rPr>
              <a:t>íodo de formació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28760" y="2362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gunda mitad del siglo XIV comienza la decadencia del g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énero (los cnatares extensos se van fragmentando, el elemento fantástico gana preponderancia y el poema épico deriva hacia una nueva forma con sensibilidad de las nuevas estructuras sociales: el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romance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75f55"/>
                </a:solidFill>
                <a:latin typeface="Tw Cen MT"/>
              </a:rPr>
              <a:t>Cantar del Mio Ci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00040" y="185688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a obra m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ás antigua de la epopeya castellana que ha llegado hasta nosotros es el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Cantar de Mio Ci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, que constituye el primer monumento literiario españo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Compuesto hacia el año 1140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El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Ci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 ofrece pruebas de que, a diferencia de otras gestas europeas, la epopeya castellana se basa en hechos rigurosamente históric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Las descripciones geográficas corresponden a la realida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75f55"/>
                </a:solidFill>
                <a:latin typeface="Tw Cen MT"/>
              </a:rPr>
              <a:t>Cantar del Mio Ci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00040" y="185688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l fil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ólogo español, Ramón Menéndez Pidal, autor d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principales investigaciones históricas y literarias h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dividido el poema en tres part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Times New Roman"/>
              </a:rPr>
              <a:t>Cantar del destierr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Times New Roman"/>
              </a:rPr>
              <a:t>Bodas de las hijas del Cid con los infantes de Carrió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Times New Roman"/>
              </a:rPr>
              <a:t>Afrenta de Corpes y venganza del Ci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3840" y="228600"/>
            <a:ext cx="8551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75f55"/>
                </a:solidFill>
                <a:latin typeface="Tw Cen MT"/>
              </a:rPr>
              <a:t>Cantar del Mio Cid </a:t>
            </a:r>
            <a:br>
              <a:rPr sz="3600"/>
            </a:br>
            <a:r>
              <a:rPr b="0" lang="en-US" sz="2500" spc="-1" strike="noStrike">
                <a:solidFill>
                  <a:srgbClr val="775f55"/>
                </a:solidFill>
                <a:latin typeface="Tw Cen MT"/>
                <a:ea typeface="Times New Roman"/>
              </a:rPr>
              <a:t>Cantar del destierro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71680" y="164304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Por falsas imputaciones de sus enemigos, el Cid es desterrado de Castilla por su rey, Alfonso VI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Don Rodrigo llega con sus hombres a Burgos, donde nadie les ofrece alojamiento porque el rey lo ha prohibido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Siguen al monasterio de San Pedro de Cardeña y allí se despide de su esposa y de sus dos hija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Don Rodrigo y sus hombres Comienza su larga serie de conquista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20:53:56Z</dcterms:created>
  <dc:creator>Windows User</dc:creator>
  <dc:description/>
  <dc:language>en-US</dc:language>
  <cp:lastModifiedBy>gescobar</cp:lastModifiedBy>
  <dcterms:modified xsi:type="dcterms:W3CDTF">2009-03-20T14:22:46Z</dcterms:modified>
  <cp:revision>17</cp:revision>
  <dc:subject/>
  <dc:title>Mester de JuglarÍa Y ClerecÍa</dc:title>
</cp:coreProperties>
</file>